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71A-423C-4A0F-B973-154FFF95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1B5-BF86-4DA9-9275-1969B32D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DC1-AB3E-4BEF-B4C9-7B82E3BB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AF6-32E5-4043-99DA-07FAD83B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676-23F0-4E38-901A-54A3F139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D9D-797A-4651-AA9F-31D92E6D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719-7703-461B-A536-7645CDA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B5A-5283-473A-93D6-2A089983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878-BE24-47C3-B2B0-F14D2C55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837-3000-461C-A870-C6746E2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0E9-0BBE-4156-A763-0057312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C5B-C8FF-4A7E-AA02-E2C7465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8C1-6909-4D0E-A058-44195C89D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uolivapaa piirto 7"/>
          <p:cNvSpPr/>
          <p:nvPr/>
        </p:nvSpPr>
        <p:spPr>
          <a:xfrm>
            <a:off x="509436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uolivapaa piirto 9"/>
          <p:cNvSpPr/>
          <p:nvPr/>
        </p:nvSpPr>
        <p:spPr>
          <a:xfrm>
            <a:off x="3805200" y="3927600"/>
            <a:ext cx="1533600" cy="153324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olivapaa piirto 11"/>
          <p:cNvSpPr/>
          <p:nvPr/>
        </p:nvSpPr>
        <p:spPr>
          <a:xfrm>
            <a:off x="251784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yhmä 22"/>
          <p:cNvGrpSpPr/>
          <p:nvPr/>
        </p:nvGrpSpPr>
        <p:grpSpPr>
          <a:xfrm>
            <a:off x="642960" y="0"/>
            <a:ext cx="8501040" cy="6858000"/>
            <a:chOff x="642960" y="0"/>
            <a:chExt cx="8501040" cy="6858000"/>
          </a:xfrm>
        </p:grpSpPr>
        <p:sp>
          <p:nvSpPr>
            <p:cNvPr id="45" name="Puolivapaa piirto 23"/>
            <p:cNvSpPr/>
            <p:nvPr/>
          </p:nvSpPr>
          <p:spPr>
            <a:xfrm>
              <a:off x="52236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Kehänuoli 24"/>
            <p:cNvGrpSpPr/>
            <p:nvPr/>
          </p:nvGrpSpPr>
          <p:grpSpPr>
            <a:xfrm>
              <a:off x="6993720" y="2288160"/>
              <a:ext cx="2150280" cy="4325760"/>
              <a:chOff x="6993720" y="2288160"/>
              <a:chExt cx="2150280" cy="4325760"/>
            </a:xfrm>
          </p:grpSpPr>
          <p:pic>
            <p:nvPicPr>
              <p:cNvPr id="47" name="Kehänuoli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2760" y="2288160"/>
                <a:ext cx="1101240" cy="43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6993720" y="2533680"/>
                <a:ext cx="1757880" cy="35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Puolivapaa piirto 25"/>
            <p:cNvSpPr/>
            <p:nvPr/>
          </p:nvSpPr>
          <p:spPr>
            <a:xfrm>
              <a:off x="3898080" y="3999600"/>
              <a:ext cx="1577160" cy="16167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Kehänuoli 26"/>
            <p:cNvGrpSpPr/>
            <p:nvPr/>
          </p:nvGrpSpPr>
          <p:grpSpPr>
            <a:xfrm>
              <a:off x="642960" y="3573720"/>
              <a:ext cx="3078000" cy="3284280"/>
              <a:chOff x="642960" y="3573720"/>
              <a:chExt cx="3078000" cy="3284280"/>
            </a:xfrm>
          </p:grpSpPr>
          <p:pic>
            <p:nvPicPr>
              <p:cNvPr id="51" name="Kehänuoli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4363200"/>
                <a:ext cx="2130840" cy="24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344600" y="3573720"/>
                <a:ext cx="2376360" cy="267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Puolivapaa piirto 27"/>
            <p:cNvSpPr/>
            <p:nvPr/>
          </p:nvSpPr>
          <p:spPr>
            <a:xfrm>
              <a:off x="25740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Kehänuoli 28"/>
            <p:cNvGrpSpPr/>
            <p:nvPr/>
          </p:nvGrpSpPr>
          <p:grpSpPr>
            <a:xfrm>
              <a:off x="2134800" y="0"/>
              <a:ext cx="4131360" cy="2191680"/>
              <a:chOff x="2134800" y="0"/>
              <a:chExt cx="4131360" cy="2191680"/>
            </a:xfrm>
          </p:grpSpPr>
          <p:pic>
            <p:nvPicPr>
              <p:cNvPr id="55" name="Kehänuoli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4800" y="0"/>
                <a:ext cx="3855600" cy="9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742480" y="449280"/>
                <a:ext cx="3523680" cy="17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kstikehys 29"/>
          <p:cNvSpPr/>
          <p:nvPr/>
        </p:nvSpPr>
        <p:spPr>
          <a:xfrm>
            <a:off x="6572160" y="12859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kstikehys 30"/>
          <p:cNvSpPr/>
          <p:nvPr/>
        </p:nvSpPr>
        <p:spPr>
          <a:xfrm>
            <a:off x="4000680" y="60008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ive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ikehys 31"/>
          <p:cNvSpPr/>
          <p:nvPr/>
        </p:nvSpPr>
        <p:spPr>
          <a:xfrm>
            <a:off x="500040" y="2214720"/>
            <a:ext cx="17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Kaaviokuva 33" descr=""/>
          <p:cNvPicPr/>
          <p:nvPr/>
        </p:nvPicPr>
        <p:blipFill>
          <a:blip r:embed="rId4"/>
          <a:stretch/>
        </p:blipFill>
        <p:spPr>
          <a:xfrm>
            <a:off x="1835280" y="981000"/>
            <a:ext cx="6303960" cy="4973760"/>
          </a:xfrm>
          <a:prstGeom prst="rect">
            <a:avLst/>
          </a:prstGeom>
          <a:ln w="0">
            <a:noFill/>
          </a:ln>
        </p:spPr>
      </p:pic>
      <p:sp>
        <p:nvSpPr>
          <p:cNvPr id="61" name="Tekstikehys 34"/>
          <p:cNvSpPr/>
          <p:nvPr/>
        </p:nvSpPr>
        <p:spPr>
          <a:xfrm>
            <a:off x="6372360" y="2060640"/>
            <a:ext cx="1814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ikehys 35"/>
          <p:cNvSpPr/>
          <p:nvPr/>
        </p:nvSpPr>
        <p:spPr>
          <a:xfrm>
            <a:off x="6858000" y="4143240"/>
            <a:ext cx="13860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S AN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kstikehys 36"/>
          <p:cNvSpPr/>
          <p:nvPr/>
        </p:nvSpPr>
        <p:spPr>
          <a:xfrm>
            <a:off x="3635280" y="5445000"/>
            <a:ext cx="936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ikehys 37"/>
          <p:cNvSpPr/>
          <p:nvPr/>
        </p:nvSpPr>
        <p:spPr>
          <a:xfrm>
            <a:off x="1571760" y="3643200"/>
            <a:ext cx="1487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ikehys 38"/>
          <p:cNvSpPr/>
          <p:nvPr/>
        </p:nvSpPr>
        <p:spPr>
          <a:xfrm>
            <a:off x="3000240" y="1357200"/>
            <a:ext cx="1714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ANCE AN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02:04Z</dcterms:created>
  <dc:creator>Tiina</dc:creator>
  <dc:description/>
  <dc:language>en-US</dc:language>
  <cp:lastModifiedBy>tiina suorsa</cp:lastModifiedBy>
  <dcterms:modified xsi:type="dcterms:W3CDTF">2010-06-08T17:47:38Z</dcterms:modified>
  <cp:revision>16</cp:revision>
  <dc:subject/>
  <dc:title>Dia 1</dc:title>
</cp:coreProperties>
</file>